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32C-8E11-4675-91B8-168A2ACE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69E-1872-4E84-841C-DA49525C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547-338C-420D-BEF9-FB911423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DD5-0D95-46A9-967E-C650F934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2714-8F36-4468-9EFB-8139BE37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2483-A158-4E88-ACDA-8D028D93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0220-577A-4DA5-BD34-E55CBB8F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DEC3-0AC5-4A05-8296-5E57ED55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1789-0CB1-4E72-887E-B33DA384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2FF6-4DC2-4499-BECB-191ED780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CCF3-AC24-4CF5-B303-90CE0114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1A1-A511-4823-A905-18ADB6D5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A504-89E1-447B-BF80-241C7572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B1B1-D113-475C-BF1B-99D41439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2BE9-B859-4FD8-8583-23E978BB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C9E6-1291-417F-AD87-A6F2D0E5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FBF9-B6AD-4727-93CD-80B9E52E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42C-5811-445E-9B13-5C9C5DD0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42A-F2FB-4942-B161-013D9E02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831-D4D4-4434-B93D-FEE44AE9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F00-D442-4A41-892B-2074C3E9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3B6-C57B-4A5E-B321-02038C57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5A2-52CD-4EEA-9D96-8740404A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749-FDC7-4BB1-BB20-2BEE76A8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720" y="-293400"/>
            <a:ext cx="9765000" cy="7676280"/>
            <a:chOff x="-468720" y="-293400"/>
            <a:chExt cx="976500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8720" y="-293400"/>
              <a:ext cx="9765000" cy="7676280"/>
              <a:chOff x="-468720" y="-293400"/>
              <a:chExt cx="976500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0680" y="474660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2360" y="410544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2040" y="483732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1440" y="5648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18000" y="29052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3560" y="327528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76600" y="30078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224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0440" y="476244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37680" y="59551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1976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5680" y="4868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052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0120" y="374328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47600" y="43340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8920" y="40928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2640" y="47674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1440" y="59400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0440" y="3102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0480" y="326232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7000" y="318564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79160" y="535644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2232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5520" y="59169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9600" y="55882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4000" y="460800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49940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488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0600" y="1381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228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31680" y="177660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444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344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3480" y="157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376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216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3400" y="1511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59440" y="23227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7040" y="2673360"/>
                <a:ext cx="127260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5240" y="150264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276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3132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628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7796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364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012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89480" y="-324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8916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1320" y="80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7820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28680" y="170208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512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68280" y="267336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1640" y="1502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798800" y="133560"/>
                <a:ext cx="10155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184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6440" y="13766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5440" y="75420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1120" y="1790640"/>
                <a:ext cx="103140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30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40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5680" y="-7632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53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024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09440" y="5099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4920" y="25545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564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0960" y="14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68880" y="735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8920" y="4691520"/>
                <a:ext cx="1090800" cy="9662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5440" y="410688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1120" y="51436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5680" y="57315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2200" y="32385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0880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4880" y="584856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6160" y="506916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5280" y="57736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0280" y="4088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0520" y="3349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620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3680" y="465120"/>
              <a:ext cx="8745120" cy="223920"/>
              <a:chOff x="193680" y="46512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3680" y="46512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5080" y="52884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5680" y="374760"/>
              <a:ext cx="8745120" cy="223560"/>
              <a:chOff x="85680" y="374760"/>
              <a:chExt cx="8745120" cy="223560"/>
            </a:xfrm>
          </p:grpSpPr>
          <p:sp>
            <p:nvSpPr>
              <p:cNvPr id="87" name=""/>
              <p:cNvSpPr/>
              <p:nvPr/>
            </p:nvSpPr>
            <p:spPr>
              <a:xfrm>
                <a:off x="85680" y="374760"/>
                <a:ext cx="874512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7080" y="438480"/>
                <a:ext cx="8649360" cy="55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7320" y="468360"/>
              <a:ext cx="137448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9240" y="146160"/>
              <a:ext cx="1253880" cy="1164960"/>
              <a:chOff x="219240" y="146160"/>
              <a:chExt cx="1253880" cy="1164960"/>
            </a:xfrm>
          </p:grpSpPr>
          <p:sp>
            <p:nvSpPr>
              <p:cNvPr id="91" name=""/>
              <p:cNvSpPr/>
              <p:nvPr/>
            </p:nvSpPr>
            <p:spPr>
              <a:xfrm>
                <a:off x="219240" y="159120"/>
                <a:ext cx="1253880" cy="11520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1920" y="165960"/>
                <a:ext cx="282960" cy="845640"/>
              </a:xfrm>
              <a:custGeom>
                <a:avLst/>
                <a:gdLst/>
                <a:ahLst/>
                <a:rect l="l" t="t" r="r" b="b"/>
                <a:pathLst>
                  <a:path w="642" h="1919">
                    <a:moveTo>
                      <a:pt x="209" y="42"/>
                    </a:moveTo>
                    <a:cubicBezTo>
                      <a:pt x="59" y="125"/>
                      <a:pt x="0" y="338"/>
                      <a:pt x="1" y="551"/>
                    </a:cubicBezTo>
                    <a:cubicBezTo>
                      <a:pt x="2" y="764"/>
                      <a:pt x="132" y="1103"/>
                      <a:pt x="218" y="1319"/>
                    </a:cubicBezTo>
                    <a:cubicBezTo>
                      <a:pt x="304" y="1535"/>
                      <a:pt x="462" y="1771"/>
                      <a:pt x="518" y="1845"/>
                    </a:cubicBezTo>
                    <a:cubicBezTo>
                      <a:pt x="574" y="1919"/>
                      <a:pt x="594" y="1892"/>
                      <a:pt x="551" y="1761"/>
                    </a:cubicBezTo>
                    <a:cubicBezTo>
                      <a:pt x="508" y="1630"/>
                      <a:pt x="314" y="1260"/>
                      <a:pt x="259" y="1060"/>
                    </a:cubicBezTo>
                    <a:cubicBezTo>
                      <a:pt x="204" y="860"/>
                      <a:pt x="204" y="704"/>
                      <a:pt x="218" y="559"/>
                    </a:cubicBezTo>
                    <a:cubicBezTo>
                      <a:pt x="232" y="414"/>
                      <a:pt x="300" y="266"/>
                      <a:pt x="343" y="192"/>
                    </a:cubicBezTo>
                    <a:cubicBezTo>
                      <a:pt x="386" y="118"/>
                      <a:pt x="427" y="139"/>
                      <a:pt x="476" y="117"/>
                    </a:cubicBezTo>
                    <a:cubicBezTo>
                      <a:pt x="525" y="95"/>
                      <a:pt x="628" y="76"/>
                      <a:pt x="635" y="58"/>
                    </a:cubicBezTo>
                    <a:cubicBezTo>
                      <a:pt x="642" y="40"/>
                      <a:pt x="569" y="16"/>
                      <a:pt x="518" y="8"/>
                    </a:cubicBezTo>
                    <a:cubicBezTo>
                      <a:pt x="467" y="0"/>
                      <a:pt x="378" y="2"/>
                      <a:pt x="326" y="8"/>
                    </a:cubicBezTo>
                    <a:cubicBezTo>
                      <a:pt x="274" y="14"/>
                      <a:pt x="259" y="0"/>
                      <a:pt x="209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6160"/>
                <a:ext cx="1063080" cy="277560"/>
              </a:xfrm>
              <a:custGeom>
                <a:avLst/>
                <a:gdLst/>
                <a:ahLst/>
                <a:rect l="l" t="t" r="r" b="b"/>
                <a:pathLst>
                  <a:path w="2411" h="630">
                    <a:moveTo>
                      <a:pt x="11" y="117"/>
                    </a:moveTo>
                    <a:cubicBezTo>
                      <a:pt x="41" y="92"/>
                      <a:pt x="124" y="20"/>
                      <a:pt x="250" y="10"/>
                    </a:cubicBezTo>
                    <a:cubicBezTo>
                      <a:pt x="375" y="0"/>
                      <a:pt x="545" y="18"/>
                      <a:pt x="765" y="58"/>
                    </a:cubicBezTo>
                    <a:cubicBezTo>
                      <a:pt x="986" y="100"/>
                      <a:pt x="1341" y="187"/>
                      <a:pt x="1574" y="256"/>
                    </a:cubicBezTo>
                    <a:cubicBezTo>
                      <a:pt x="1807" y="324"/>
                      <a:pt x="2032" y="415"/>
                      <a:pt x="2162" y="470"/>
                    </a:cubicBezTo>
                    <a:cubicBezTo>
                      <a:pt x="2293" y="525"/>
                      <a:pt x="2336" y="565"/>
                      <a:pt x="2359" y="586"/>
                    </a:cubicBezTo>
                    <a:cubicBezTo>
                      <a:pt x="2383" y="607"/>
                      <a:pt x="2411" y="630"/>
                      <a:pt x="2307" y="601"/>
                    </a:cubicBezTo>
                    <a:cubicBezTo>
                      <a:pt x="2204" y="573"/>
                      <a:pt x="1980" y="481"/>
                      <a:pt x="1741" y="415"/>
                    </a:cubicBezTo>
                    <a:cubicBezTo>
                      <a:pt x="1502" y="351"/>
                      <a:pt x="1100" y="251"/>
                      <a:pt x="874" y="212"/>
                    </a:cubicBezTo>
                    <a:cubicBezTo>
                      <a:pt x="648" y="173"/>
                      <a:pt x="495" y="169"/>
                      <a:pt x="382" y="179"/>
                    </a:cubicBezTo>
                    <a:cubicBezTo>
                      <a:pt x="269" y="189"/>
                      <a:pt x="256" y="269"/>
                      <a:pt x="198" y="270"/>
                    </a:cubicBezTo>
                    <a:cubicBezTo>
                      <a:pt x="140" y="271"/>
                      <a:pt x="62" y="212"/>
                      <a:pt x="31" y="187"/>
                    </a:cubicBezTo>
                    <a:cubicBezTo>
                      <a:pt x="0" y="162"/>
                      <a:pt x="15" y="132"/>
                      <a:pt x="11" y="11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440" y="453240"/>
                <a:ext cx="68184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1040" y="371880"/>
                <a:ext cx="406080" cy="40176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816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0509-E1D4-488F-ACDA-868DDCC70E0C}" type="slidenum">
              <a:rPr b="0" lang="zh-TW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720" y="-293400"/>
            <a:ext cx="9765000" cy="7676280"/>
            <a:chOff x="-46872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720" y="-293400"/>
              <a:ext cx="9765000" cy="7676280"/>
              <a:chOff x="-46872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0680" y="474660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732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440" y="5648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000" y="29052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560" y="327528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600" y="30078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24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440" y="476244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51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1976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5680" y="4868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52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0120" y="374328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600" y="43340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8920" y="40928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2640" y="47674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440" y="3102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480" y="326232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7000" y="318564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9160" y="535644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520" y="59169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600" y="55882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000" y="460800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49940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488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600" y="1381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60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44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480" y="157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376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16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400" y="1511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440" y="23227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60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5240" y="150264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28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796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364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12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480" y="-324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16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320" y="80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8680" y="170208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12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1640" y="1502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560"/>
                <a:ext cx="10155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184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6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120" y="1790640"/>
                <a:ext cx="103140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0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0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5680" y="-7632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3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24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440" y="5099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4920" y="25545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564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0960" y="14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8920" y="4691520"/>
                <a:ext cx="1090800" cy="9662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120" y="51436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5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200" y="32385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880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880" y="584856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160" y="506916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6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9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20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rot="17967600">
              <a:off x="356760" y="3306960"/>
              <a:ext cx="1782720" cy="16365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28600" y="3525840"/>
              <a:ext cx="8745120" cy="223920"/>
              <a:chOff x="228600" y="3525840"/>
              <a:chExt cx="8745120" cy="223920"/>
            </a:xfrm>
          </p:grpSpPr>
          <p:sp>
            <p:nvSpPr>
              <p:cNvPr id="222" name=""/>
              <p:cNvSpPr/>
              <p:nvPr/>
            </p:nvSpPr>
            <p:spPr>
              <a:xfrm>
                <a:off x="228600" y="35258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0000" y="35895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20600" y="3435480"/>
              <a:ext cx="8745120" cy="223560"/>
              <a:chOff x="120600" y="3435480"/>
              <a:chExt cx="8745120" cy="223560"/>
            </a:xfrm>
          </p:grpSpPr>
          <p:sp>
            <p:nvSpPr>
              <p:cNvPr id="225" name=""/>
              <p:cNvSpPr/>
              <p:nvPr/>
            </p:nvSpPr>
            <p:spPr>
              <a:xfrm>
                <a:off x="120600" y="3435480"/>
                <a:ext cx="874512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2000" y="3499200"/>
                <a:ext cx="8649360" cy="55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54800" y="2772360"/>
              <a:ext cx="2102040" cy="2152080"/>
              <a:chOff x="154800" y="2772360"/>
              <a:chExt cx="2102040" cy="2152080"/>
            </a:xfrm>
          </p:grpSpPr>
          <p:sp>
            <p:nvSpPr>
              <p:cNvPr id="228" name=""/>
              <p:cNvSpPr/>
              <p:nvPr/>
            </p:nvSpPr>
            <p:spPr>
              <a:xfrm rot="17970000">
                <a:off x="392040" y="3101040"/>
                <a:ext cx="1627200" cy="1494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7970000">
                <a:off x="560880" y="3728520"/>
                <a:ext cx="367200" cy="1096920"/>
              </a:xfrm>
              <a:custGeom>
                <a:avLst/>
                <a:gdLst/>
                <a:ahLst/>
                <a:rect l="l" t="t" r="r" b="b"/>
                <a:pathLst>
                  <a:path w="642" h="1919">
                    <a:moveTo>
                      <a:pt x="209" y="42"/>
                    </a:moveTo>
                    <a:cubicBezTo>
                      <a:pt x="59" y="125"/>
                      <a:pt x="0" y="338"/>
                      <a:pt x="1" y="551"/>
                    </a:cubicBezTo>
                    <a:cubicBezTo>
                      <a:pt x="2" y="764"/>
                      <a:pt x="132" y="1103"/>
                      <a:pt x="218" y="1319"/>
                    </a:cubicBezTo>
                    <a:cubicBezTo>
                      <a:pt x="304" y="1535"/>
                      <a:pt x="462" y="1771"/>
                      <a:pt x="518" y="1845"/>
                    </a:cubicBezTo>
                    <a:cubicBezTo>
                      <a:pt x="574" y="1919"/>
                      <a:pt x="594" y="1892"/>
                      <a:pt x="551" y="1761"/>
                    </a:cubicBezTo>
                    <a:cubicBezTo>
                      <a:pt x="508" y="1630"/>
                      <a:pt x="314" y="1260"/>
                      <a:pt x="259" y="1060"/>
                    </a:cubicBezTo>
                    <a:cubicBezTo>
                      <a:pt x="204" y="860"/>
                      <a:pt x="204" y="704"/>
                      <a:pt x="218" y="559"/>
                    </a:cubicBezTo>
                    <a:cubicBezTo>
                      <a:pt x="232" y="414"/>
                      <a:pt x="300" y="266"/>
                      <a:pt x="343" y="192"/>
                    </a:cubicBezTo>
                    <a:cubicBezTo>
                      <a:pt x="386" y="118"/>
                      <a:pt x="427" y="139"/>
                      <a:pt x="476" y="117"/>
                    </a:cubicBezTo>
                    <a:cubicBezTo>
                      <a:pt x="525" y="95"/>
                      <a:pt x="628" y="76"/>
                      <a:pt x="635" y="58"/>
                    </a:cubicBezTo>
                    <a:cubicBezTo>
                      <a:pt x="642" y="40"/>
                      <a:pt x="569" y="16"/>
                      <a:pt x="518" y="8"/>
                    </a:cubicBezTo>
                    <a:cubicBezTo>
                      <a:pt x="467" y="0"/>
                      <a:pt x="378" y="2"/>
                      <a:pt x="326" y="8"/>
                    </a:cubicBezTo>
                    <a:cubicBezTo>
                      <a:pt x="274" y="14"/>
                      <a:pt x="259" y="0"/>
                      <a:pt x="209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7970000">
                <a:off x="-2520" y="3398400"/>
                <a:ext cx="1379520" cy="360000"/>
              </a:xfrm>
              <a:custGeom>
                <a:avLst/>
                <a:gdLst/>
                <a:ahLst/>
                <a:rect l="l" t="t" r="r" b="b"/>
                <a:pathLst>
                  <a:path w="2411" h="630">
                    <a:moveTo>
                      <a:pt x="11" y="117"/>
                    </a:moveTo>
                    <a:cubicBezTo>
                      <a:pt x="41" y="92"/>
                      <a:pt x="124" y="20"/>
                      <a:pt x="250" y="10"/>
                    </a:cubicBezTo>
                    <a:cubicBezTo>
                      <a:pt x="375" y="0"/>
                      <a:pt x="545" y="18"/>
                      <a:pt x="765" y="58"/>
                    </a:cubicBezTo>
                    <a:cubicBezTo>
                      <a:pt x="986" y="100"/>
                      <a:pt x="1341" y="187"/>
                      <a:pt x="1574" y="256"/>
                    </a:cubicBezTo>
                    <a:cubicBezTo>
                      <a:pt x="1807" y="324"/>
                      <a:pt x="2032" y="415"/>
                      <a:pt x="2162" y="470"/>
                    </a:cubicBezTo>
                    <a:cubicBezTo>
                      <a:pt x="2293" y="525"/>
                      <a:pt x="2336" y="565"/>
                      <a:pt x="2359" y="586"/>
                    </a:cubicBezTo>
                    <a:cubicBezTo>
                      <a:pt x="2383" y="607"/>
                      <a:pt x="2411" y="630"/>
                      <a:pt x="2307" y="601"/>
                    </a:cubicBezTo>
                    <a:cubicBezTo>
                      <a:pt x="2204" y="573"/>
                      <a:pt x="1980" y="481"/>
                      <a:pt x="1741" y="415"/>
                    </a:cubicBezTo>
                    <a:cubicBezTo>
                      <a:pt x="1502" y="351"/>
                      <a:pt x="1100" y="251"/>
                      <a:pt x="874" y="212"/>
                    </a:cubicBezTo>
                    <a:cubicBezTo>
                      <a:pt x="648" y="173"/>
                      <a:pt x="495" y="169"/>
                      <a:pt x="382" y="179"/>
                    </a:cubicBezTo>
                    <a:cubicBezTo>
                      <a:pt x="269" y="189"/>
                      <a:pt x="256" y="269"/>
                      <a:pt x="198" y="270"/>
                    </a:cubicBezTo>
                    <a:cubicBezTo>
                      <a:pt x="140" y="271"/>
                      <a:pt x="62" y="212"/>
                      <a:pt x="31" y="187"/>
                    </a:cubicBezTo>
                    <a:cubicBezTo>
                      <a:pt x="0" y="162"/>
                      <a:pt x="15" y="132"/>
                      <a:pt x="11" y="11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7970000">
                <a:off x="870840" y="3358440"/>
                <a:ext cx="884880" cy="85860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7970000">
                <a:off x="661680" y="3655440"/>
                <a:ext cx="526680" cy="5212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4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CF77-09A2-4635-B68D-EC574788378D}" type="slidenum">
              <a:rPr b="0" lang="zh-TW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9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GpjaoG9VbFk" TargetMode="External"/><Relationship Id="rId3" Type="http://schemas.openxmlformats.org/officeDocument/2006/relationships/hyperlink" Target="http://www.youtube.com/watch?v=VrVvRKdWZlw&amp;NR=1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youtube.com/watch?v=M4Dv4KHkSOc&amp;feature=related" TargetMode="External"/><Relationship Id="rId6" Type="http://schemas.openxmlformats.org/officeDocument/2006/relationships/hyperlink" Target="http://www.youtube.com/watch?v=M4Dv4KHkSOc&amp;feature=related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youtube.com/watch?v=KFFYBmuxbpE&amp;feature=related" TargetMode="External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hyperlink" Target="http://www.youtube.com/watch?v=ffKBnbfv4tE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www.youtube.com/watch?v=7I0Trp85EwM&amp;feature=related" TargetMode="External"/><Relationship Id="rId15" Type="http://schemas.openxmlformats.org/officeDocument/2006/relationships/image" Target="../media/image1.png"/><Relationship Id="rId16" Type="http://schemas.openxmlformats.org/officeDocument/2006/relationships/hyperlink" Target="http://www.youtube.com/watch?v=_jBq-lDSJ7w&amp;feature=related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846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33"/>
                </a:solidFill>
                <a:latin typeface="標楷體"/>
                <a:ea typeface="標楷體"/>
              </a:rPr>
              <a:t>教學設計</a:t>
            </a:r>
            <a:r>
              <a:rPr b="0" lang="zh-TW" sz="5400" spc="-1" strike="noStrike">
                <a:solidFill>
                  <a:srgbClr val="333333"/>
                </a:solidFill>
                <a:latin typeface="標楷體"/>
                <a:ea typeface="標楷體"/>
              </a:rPr>
              <a:t>&amp;</a:t>
            </a:r>
            <a:r>
              <a:rPr b="0" lang="zh-TW" sz="5400" spc="-1" strike="noStrike">
                <a:solidFill>
                  <a:srgbClr val="333333"/>
                </a:solidFill>
                <a:latin typeface="標楷體"/>
                <a:ea typeface="標楷體"/>
              </a:rPr>
              <a:t>多媒體報告</a:t>
            </a:r>
            <a:br>
              <a:rPr sz="5400"/>
            </a:br>
            <a:r>
              <a:rPr b="0" lang="zh-TW" sz="5400" spc="-1" strike="noStrike">
                <a:solidFill>
                  <a:srgbClr val="333333"/>
                </a:solidFill>
                <a:latin typeface="標楷體"/>
                <a:ea typeface="標楷體"/>
              </a:rPr>
              <a:t>----</a:t>
            </a:r>
            <a:r>
              <a:rPr b="0" lang="zh-TW" sz="5400" spc="-1" strike="noStrike">
                <a:solidFill>
                  <a:srgbClr val="333333"/>
                </a:solidFill>
                <a:latin typeface="標楷體"/>
                <a:ea typeface="標楷體"/>
              </a:rPr>
              <a:t>擴增實境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Arial Narrow"/>
                <a:ea typeface="標楷體"/>
              </a:rPr>
              <a:t>指導教授：鄒景平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Arial Narrow"/>
                <a:ea typeface="標楷體"/>
              </a:rPr>
              <a:t>學　　生：楊美儀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rcRect l="13837" t="40196" r="15964" b="3138"/>
          <a:stretch/>
        </p:blipFill>
        <p:spPr>
          <a:xfrm>
            <a:off x="1187280" y="1197000"/>
            <a:ext cx="712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rcRect l="13914" t="17997" r="16322" b="12684"/>
          <a:stretch/>
        </p:blipFill>
        <p:spPr>
          <a:xfrm>
            <a:off x="1447920" y="836640"/>
            <a:ext cx="708336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rcRect l="13837" t="27639" r="16120" b="12431"/>
          <a:stretch/>
        </p:blipFill>
        <p:spPr>
          <a:xfrm>
            <a:off x="1042920" y="1268280"/>
            <a:ext cx="71121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7572"/>
                </a:solidFill>
                <a:latin typeface="Arial Narrow"/>
                <a:ea typeface="標楷體"/>
              </a:rPr>
              <a:t>應用範例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電子商務（</a:t>
            </a:r>
            <a:r>
              <a:rPr b="0" lang="zh-TW" sz="2800" spc="-1" strike="noStrike" u="sng">
                <a:solidFill>
                  <a:srgbClr val="ccffff"/>
                </a:solidFill>
                <a:uFillTx/>
                <a:latin typeface="標楷體"/>
                <a:ea typeface="標楷體"/>
                <a:hlinkClick r:id="rId2"/>
              </a:rPr>
              <a:t>線上產品展示</a:t>
            </a:r>
            <a:r>
              <a:rPr b="0" lang="zh-TW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或</a:t>
            </a:r>
            <a:r>
              <a:rPr b="0" lang="zh-TW" sz="2800" spc="-1" strike="noStrike" u="sng">
                <a:solidFill>
                  <a:srgbClr val="ccffff"/>
                </a:solidFill>
                <a:uFillTx/>
                <a:latin typeface="標楷體"/>
                <a:ea typeface="標楷體"/>
                <a:hlinkClick r:id="rId3"/>
              </a:rPr>
              <a:t>線上購物</a:t>
            </a:r>
            <a:r>
              <a:rPr b="0" lang="zh-TW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）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ffff"/>
                </a:solidFill>
                <a:uFillTx/>
                <a:latin typeface="Arial Narrow"/>
                <a:ea typeface="標楷體"/>
                <a:hlinkClick r:id="rId5"/>
              </a:rPr>
              <a:t>互動式人體手術</a:t>
            </a:r>
            <a:r>
              <a:rPr b="0" lang="zh-TW" sz="2800" spc="-1" strike="noStrike" u="sng">
                <a:solidFill>
                  <a:srgbClr val="ccffff"/>
                </a:solidFill>
                <a:uFillTx/>
                <a:latin typeface="Arial Narrow"/>
                <a:ea typeface="標楷體"/>
                <a:hlinkClick r:id="rId6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ffff"/>
                </a:solidFill>
                <a:uFillTx/>
                <a:latin typeface="標楷體"/>
                <a:ea typeface="標楷體"/>
                <a:hlinkClick r:id="rId8"/>
              </a:rPr>
              <a:t>設計評估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廠房規劃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售後服務及維修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ffff"/>
                </a:solidFill>
                <a:uFillTx/>
                <a:latin typeface="標楷體"/>
                <a:ea typeface="標楷體"/>
                <a:hlinkClick r:id="rId12"/>
              </a:rPr>
              <a:t>教育</a:t>
            </a:r>
            <a:r>
              <a:rPr b="0" lang="zh-TW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訓練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ffff"/>
                </a:solidFill>
                <a:uFillTx/>
                <a:latin typeface="標楷體"/>
                <a:ea typeface="標楷體"/>
                <a:hlinkClick r:id="rId14"/>
              </a:rPr>
              <a:t>電子魔法書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ffff"/>
                </a:solidFill>
                <a:uFillTx/>
                <a:latin typeface="標楷體"/>
                <a:ea typeface="標楷體"/>
                <a:hlinkClick r:id="rId16"/>
              </a:rPr>
              <a:t>互動式科技藝術的創作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23:33:22Z</dcterms:created>
  <dc:creator>楊美儀</dc:creator>
  <dc:description/>
  <dc:language>en-US</dc:language>
  <cp:lastModifiedBy>楊美儀</cp:lastModifiedBy>
  <dcterms:modified xsi:type="dcterms:W3CDTF">2010-10-23T04:10:11Z</dcterms:modified>
  <cp:revision>3</cp:revision>
  <dc:subject/>
  <dc:title>投影片 1</dc:title>
</cp:coreProperties>
</file>